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6F66-688D-47EF-95F2-BBD41108B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FD2F-4212-41C5-8B50-7FE8FF9D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B265-AB05-4147-84E8-7D0871A5C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FA65-27D4-4042-A2EA-924D638C9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AFDE-BF88-4DA8-9A87-45ABC4FD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0B21-E4F2-4C4D-83BA-9EA7C601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0533-98D6-4030-AFD1-52DA3F8D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9084-E2A3-4C10-A1FC-7C9AE9FB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5966-46FC-49E5-A8E9-F1485695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7F10-1111-4656-881D-6BA2C99B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714A-C8AE-47F5-914C-70796570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25AC-693B-412C-920A-39811D2D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4B23-3085-4713-B2CC-62F2437D6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025800" cy="1982880"/>
          </a:xfrm>
          <a:prstGeom prst="rect">
            <a:avLst/>
          </a:prstGeom>
          <a:ln w="14616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1116000" y="4508640"/>
            <a:ext cx="7201080" cy="201600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adder ITC"/>
              </a:rPr>
              <a:t>Shelter for the Hom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adder ITC"/>
              </a:rPr>
              <a:t>Remembering Laman Street Fig Trees</a:t>
            </a:r>
            <a:r>
              <a:rPr b="0" lang="en-US" sz="2400" spc="-1" strike="noStrike">
                <a:solidFill>
                  <a:srgbClr val="000000"/>
                </a:solidFill>
                <a:latin typeface="Blackadder IT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adder ITC"/>
              </a:rPr>
              <a:t>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95640" y="692280"/>
            <a:ext cx="4753080" cy="3170160"/>
          </a:xfrm>
          <a:prstGeom prst="rect">
            <a:avLst/>
          </a:prstGeom>
          <a:ln w="14292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0:33:49Z</dcterms:created>
  <dc:creator>gaetano.gerardi</dc:creator>
  <dc:description/>
  <dc:language>en-US</dc:language>
  <cp:lastModifiedBy>gaetano.gerardi</cp:lastModifiedBy>
  <dcterms:modified xsi:type="dcterms:W3CDTF">2010-08-31T00:56:43Z</dcterms:modified>
  <cp:revision>3</cp:revision>
  <dc:subject/>
  <dc:title>Slide 1</dc:title>
</cp:coreProperties>
</file>