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4B53-09B7-49A3-8C2D-5CDA7201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AD65-60AA-487F-A3DA-59E95858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6704-0630-4671-B0E5-E4AD052E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5D51-ED1E-45CF-B610-D1694754B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CEB9-A7B2-448A-8D2B-8BD7476F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D372-8D84-4E20-B632-E1E8B736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4991-D57E-4154-ABFF-2403077F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85AB-46DB-41C2-8BC9-4355D9D7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9E8C-478F-467B-9B8F-43C30E94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7B28-C357-43BC-800A-60501D7B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6760-8DB4-45A6-90F9-B690BF31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480E-D863-4875-BCB0-0B15EB22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95E0-A475-454E-8879-E20932EDF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025800" cy="1982880"/>
          </a:xfrm>
          <a:prstGeom prst="rect">
            <a:avLst/>
          </a:prstGeom>
          <a:ln w="1461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1116000" y="4508640"/>
            <a:ext cx="7201080" cy="20160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adder ITC"/>
              </a:rPr>
              <a:t>Shelter for the Hom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adder ITC"/>
              </a:rPr>
              <a:t>Remembering Laman Street Fig Trees</a:t>
            </a:r>
            <a:r>
              <a:rPr b="0" lang="en-US" sz="2400" spc="-1" strike="noStrike">
                <a:solidFill>
                  <a:srgbClr val="000000"/>
                </a:solidFill>
                <a:latin typeface="Blackadder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adder ITC"/>
              </a:rPr>
              <a:t>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95640" y="692280"/>
            <a:ext cx="4753080" cy="3170160"/>
          </a:xfrm>
          <a:prstGeom prst="rect">
            <a:avLst/>
          </a:prstGeom>
          <a:ln w="1429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0:33:49Z</dcterms:created>
  <dc:creator>gaetano.gerardi</dc:creator>
  <dc:description/>
  <dc:language>en-US</dc:language>
  <cp:lastModifiedBy>gaetano.gerardi</cp:lastModifiedBy>
  <dcterms:modified xsi:type="dcterms:W3CDTF">2010-08-31T00:56:43Z</dcterms:modified>
  <cp:revision>3</cp:revision>
  <dc:subject/>
  <dc:title>Slide 1</dc:title>
</cp:coreProperties>
</file>