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D61-575A-496C-9053-3E3B0885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CA2-BA84-4BED-B371-6DD857F0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BDF-D35E-4378-BBBC-0D7292AF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44A-F378-4917-99E5-3915027F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DE2-3A07-41BA-A5C7-5C0CCEE0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C65-FF2E-494E-9DFB-B6391B2C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540-E1DD-4C5D-A9DD-4F74469A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5D8-C35C-43A6-A1E3-FB2EB317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D2C-8B5C-432B-B2AD-6210E89F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341-B078-45E0-8D1A-B3E052BB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C2C-B0D3-41FD-86D3-6E9DDFC6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BB3-2280-47D5-A257-94CC238B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1586-D6D4-4E59-B72E-12971B041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5800" cy="1982880"/>
          </a:xfrm>
          <a:prstGeom prst="rect">
            <a:avLst/>
          </a:prstGeom>
          <a:ln w="1461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116000" y="4508640"/>
            <a:ext cx="7201080" cy="2016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Shelter for the Hom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Remembering Laman Street Fig Trees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95640" y="692280"/>
            <a:ext cx="4753080" cy="3170160"/>
          </a:xfrm>
          <a:prstGeom prst="rect">
            <a:avLst/>
          </a:prstGeom>
          <a:ln w="1429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49Z</dcterms:created>
  <dc:creator>gaetano.gerardi</dc:creator>
  <dc:description/>
  <dc:language>en-US</dc:language>
  <cp:lastModifiedBy>gaetano.gerardi</cp:lastModifiedBy>
  <dcterms:modified xsi:type="dcterms:W3CDTF">2010-08-31T00:56:43Z</dcterms:modified>
  <cp:revision>3</cp:revision>
  <dc:subject/>
  <dc:title>Slide 1</dc:title>
</cp:coreProperties>
</file>