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F863-3AE6-4085-A5BF-431B01EAC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ADFC-F700-4B64-A6EC-D2F00964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9ED5-5516-485F-9697-6ED2C4358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E0B3-867B-4BE6-B8F7-0E535F93A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990C-FBA2-4840-8A4E-49BE8AC1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DD21-42B6-465F-B380-74816E03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6E36-5E98-4B54-9EA9-DD74B632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6DDF-651C-4912-BFE9-3857AD32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EEFA-59CF-4BA9-9C59-FA134DC6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5C8A-39FB-43F4-9CAC-2D77F137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1512-33DD-4092-B3A1-62669B57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4D73-E61B-4675-AAA2-053C685B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3814-A5F5-40A9-8221-751343FAF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025800" cy="1982880"/>
          </a:xfrm>
          <a:prstGeom prst="rect">
            <a:avLst/>
          </a:prstGeom>
          <a:ln w="14616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1116000" y="4508640"/>
            <a:ext cx="7201080" cy="201600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adder ITC"/>
              </a:rPr>
              <a:t>Shelter for the Hom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adder ITC"/>
              </a:rPr>
              <a:t>Remembering Laman Street Fig Trees</a:t>
            </a:r>
            <a:r>
              <a:rPr b="0" lang="en-US" sz="2400" spc="-1" strike="noStrike">
                <a:solidFill>
                  <a:srgbClr val="000000"/>
                </a:solidFill>
                <a:latin typeface="Blackadder IT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adder ITC"/>
              </a:rPr>
              <a:t>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95640" y="692280"/>
            <a:ext cx="4753080" cy="3170160"/>
          </a:xfrm>
          <a:prstGeom prst="rect">
            <a:avLst/>
          </a:prstGeom>
          <a:ln w="14292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0:33:49Z</dcterms:created>
  <dc:creator>gaetano.gerardi</dc:creator>
  <dc:description/>
  <dc:language>en-US</dc:language>
  <cp:lastModifiedBy>gaetano.gerardi</cp:lastModifiedBy>
  <dcterms:modified xsi:type="dcterms:W3CDTF">2010-08-31T00:56:43Z</dcterms:modified>
  <cp:revision>3</cp:revision>
  <dc:subject/>
  <dc:title>Slide 1</dc:title>
</cp:coreProperties>
</file>