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E32-D5FB-4D22-A22E-3EC7FBB1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AA5-E7CE-49E0-83CD-6CFF3FD0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46C-3B77-4A90-B5FA-F5FFFBBA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2A0-DE0B-4501-8558-7F920CC0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088-6C0C-4702-B4FF-3CE2C7E3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142-090B-408B-A628-951F4ACF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58D-3002-457D-A5A1-301E9E1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A4F-5266-4D80-8389-DC8CDC71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38B-E43F-4D1E-9191-859A2268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0C7-9302-4C60-8B36-F10A8F2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EE6-B3C9-4742-993A-5B39008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F93-C6C1-4174-AF1B-3A73F06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BEB5-0B30-4302-9E16-8AC896E3653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424240" cy="32846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3959280" cy="26352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19280" y="5516640"/>
            <a:ext cx="5832360" cy="1152360"/>
          </a:xfrm>
          <a:prstGeom prst="beve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ench Script MT"/>
              </a:rPr>
              <a:t>Laman street wooden bed 2010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4:21Z</dcterms:created>
  <dc:creator>harrison.jack</dc:creator>
  <dc:description/>
  <dc:language>en-US</dc:language>
  <cp:lastModifiedBy>harrison.jack</cp:lastModifiedBy>
  <dcterms:modified xsi:type="dcterms:W3CDTF">2010-08-31T01:04:57Z</dcterms:modified>
  <cp:revision>2</cp:revision>
  <dc:subject/>
  <dc:title>Slide 1</dc:title>
</cp:coreProperties>
</file>