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37C-293D-4CDF-99C7-BFF1587B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72E-9484-4F5A-B9CB-E933A388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F95-2BAC-41EC-AE2D-89521961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178-1C31-4B24-9AF6-DA7E7E16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E8A-CC56-468D-BB94-CA343089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1B4-27E4-43F1-B292-1F91F186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C80-F804-4FB9-A6D3-24BFC9F7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D3D-E736-4BA6-8DFF-BCE0E4B1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9F3-B839-4B2B-BD85-2F9BAEB0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B7E-1C6D-425A-8093-FE18830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E67-1CF6-45EE-8F14-B361330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912-54A2-4A16-A0B9-A623D4D2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22DA-D7DA-4A98-AA5C-5F53DD05E46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24240" cy="3284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959280" cy="26352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19280" y="5516640"/>
            <a:ext cx="5832360" cy="115236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ench Script MT"/>
              </a:rPr>
              <a:t>Laman street wooden bed 2010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4:21Z</dcterms:created>
  <dc:creator>harrison.jack</dc:creator>
  <dc:description/>
  <dc:language>en-US</dc:language>
  <cp:lastModifiedBy>harrison.jack</cp:lastModifiedBy>
  <dcterms:modified xsi:type="dcterms:W3CDTF">2010-08-31T01:04:57Z</dcterms:modified>
  <cp:revision>2</cp:revision>
  <dc:subject/>
  <dc:title>Slide 1</dc:title>
</cp:coreProperties>
</file>