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66B8-8D35-4525-9611-BDE73953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7F2-3A42-4A64-A650-4C4BA45E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702-8A18-40C8-9945-D05ED260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E41-28CE-45BE-8A65-62215D2F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297-6705-4BAC-A771-404A3F1A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5C69-77F7-4023-B1FF-04431ABE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6C7-9834-42B7-8169-C3298743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CDF-FF64-48E6-B314-E5D82C5F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BAC-AEFF-4997-8E96-3AB0B9FD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D01-8113-4784-B99A-8AEF1800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830-C176-4BAB-AFA7-D454CE2E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251-6803-41E5-88A0-3E5500C3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F3B2-740C-43F4-9C90-4042C3BC1DC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424240" cy="3284640"/>
          </a:xfrm>
          <a:prstGeom prst="rect">
            <a:avLst/>
          </a:prstGeom>
          <a:ln cap="rnd" w="76320">
            <a:solidFill>
              <a:srgbClr val="00ff00"/>
            </a:solidFill>
            <a:custDash>
              <a:ds d="100000" sp="1000"/>
            </a:custDash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3959280" cy="263520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619280" y="5516640"/>
            <a:ext cx="5832360" cy="1152360"/>
          </a:xfrm>
          <a:prstGeom prst="beve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French Script MT"/>
              </a:rPr>
              <a:t>Laman street wooden bed 2010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4:21Z</dcterms:created>
  <dc:creator>harrison.jack</dc:creator>
  <dc:description/>
  <dc:language>en-US</dc:language>
  <cp:lastModifiedBy>harrison.jack</cp:lastModifiedBy>
  <dcterms:modified xsi:type="dcterms:W3CDTF">2010-08-31T01:04:57Z</dcterms:modified>
  <cp:revision>2</cp:revision>
  <dc:subject/>
  <dc:title>Slide 1</dc:title>
</cp:coreProperties>
</file>