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99E-BF4A-476C-B065-7A4C1908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7D8-62CD-4E83-BE98-D20AB2E6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BCE-5C94-4EBE-94BD-791FF073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604-A590-44FB-B5DB-0763E2BA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931-4852-43C9-8EB0-9E30B02E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965-F5CC-409F-BB68-3BEA4820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BB6-E995-47EA-8606-BAF7D9B8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8E4-002F-44CB-9A13-B4967E81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E76-8485-4F49-B593-59E010A3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584-C30E-4811-932F-C2053431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CDE-E6C1-4782-827C-9B707705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6DB-D842-4BE5-933A-7E3152E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E051-A202-404E-9F5F-358F3C4F2D6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424240" cy="328464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3959280" cy="26352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19280" y="5516640"/>
            <a:ext cx="5832360" cy="1152360"/>
          </a:xfrm>
          <a:prstGeom prst="beve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ench Script MT"/>
              </a:rPr>
              <a:t>Laman street wooden bed 2010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4:21Z</dcterms:created>
  <dc:creator>harrison.jack</dc:creator>
  <dc:description/>
  <dc:language>en-US</dc:language>
  <cp:lastModifiedBy>harrison.jack</cp:lastModifiedBy>
  <dcterms:modified xsi:type="dcterms:W3CDTF">2010-08-31T01:04:57Z</dcterms:modified>
  <cp:revision>2</cp:revision>
  <dc:subject/>
  <dc:title>Slide 1</dc:title>
</cp:coreProperties>
</file>