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50C-26A6-4B54-A4DF-CB9C8AEE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E22-2D57-4618-A164-1B46C510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548-37E2-4B51-B21D-80EF87B2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AD0-1A66-4007-9CEB-720552AC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E7E-47EA-42AB-9605-88291865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86B-10B9-497A-AD67-90A6326A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60B-CD35-4DC6-BA2E-72A1618D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9B4-125E-4041-84C2-360C6526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A68-FA7B-4F58-BC93-08CACB6E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697-4AEF-4ED2-AB1D-4B6BC379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80D-3090-4F41-B611-07E3F6AF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567-1206-477B-B072-37E9D3DA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4923-2344-4493-BAED-15278611942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424240" cy="3284640"/>
          </a:xfrm>
          <a:prstGeom prst="rect">
            <a:avLst/>
          </a:prstGeom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3959280" cy="26352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19280" y="5516640"/>
            <a:ext cx="5832360" cy="1152360"/>
          </a:xfrm>
          <a:prstGeom prst="beve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ench Script MT"/>
              </a:rPr>
              <a:t>Laman street wooden bed 2010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4:21Z</dcterms:created>
  <dc:creator>harrison.jack</dc:creator>
  <dc:description/>
  <dc:language>en-US</dc:language>
  <cp:lastModifiedBy>harrison.jack</cp:lastModifiedBy>
  <dcterms:modified xsi:type="dcterms:W3CDTF">2010-08-31T01:04:57Z</dcterms:modified>
  <cp:revision>2</cp:revision>
  <dc:subject/>
  <dc:title>Slide 1</dc:title>
</cp:coreProperties>
</file>