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F68-A33B-4DE3-B385-1C8CE890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4E8-BAA4-4FAB-90C7-9B57DC50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EAB-4A6B-4B8A-97E7-9E1B3FE3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A31-EC82-4934-B823-4BF30892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0C8-41DC-4B65-881E-7C340A0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0E1-E55E-4B8E-A5F8-AC963973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B36-4457-4DEA-91FB-E92C2747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C46-B1FB-4C39-8153-8D66B132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CB6-7B87-4871-8A00-DE0342B5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94B-732A-4905-BE98-F7F2E952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EE9-0861-4698-A8ED-AFD296C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F80-BBA1-434C-BF97-6800BC7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CAE6-7EBF-40AE-AAD7-6890FEB63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2247840"/>
          </a:xfrm>
          <a:prstGeom prst="rect">
            <a:avLst/>
          </a:prstGeom>
          <a:ln w="216000">
            <a:solidFill>
              <a:srgbClr val="ff66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81520" cy="2263680"/>
          </a:xfrm>
          <a:prstGeom prst="rect">
            <a:avLst/>
          </a:prstGeom>
          <a:ln w="203040">
            <a:solidFill>
              <a:srgbClr val="ff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92360" y="4076640"/>
            <a:ext cx="6335640" cy="2232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estyle Script"/>
              </a:rPr>
              <a:t>laman street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37Z</dcterms:created>
  <dc:creator>EMILY.WHELAN</dc:creator>
  <dc:description/>
  <dc:language>en-US</dc:language>
  <cp:lastModifiedBy>EMILY.WHELAN</cp:lastModifiedBy>
  <dcterms:modified xsi:type="dcterms:W3CDTF">2010-08-31T00:56:37Z</dcterms:modified>
  <cp:revision>2</cp:revision>
  <dc:subject/>
  <dc:title>Slide 1</dc:title>
</cp:coreProperties>
</file>