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F24E-5784-40DF-8AB0-27A2052CF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707E-4E4E-42C6-A4E4-BF5AEB42B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A1EB-9FFC-45BB-896C-120841500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1D78-5194-43DC-9CF3-152C89D73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B49F-A072-4659-BBA6-4861C8E0E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61AA-9222-4787-B413-A18D6BF15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E1B0-13CC-48E5-9B60-175A58C91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7AEA-0A71-45C3-8503-C45AD64AB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E868-38F7-4124-87E1-288ACEC70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E95E-1B49-4931-8860-188EB9079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2481-817C-4229-BAFB-0534620B1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D173-9936-4BAF-ACC7-34218701F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8BC8A-0A8B-4D28-BE52-6163D8EB66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076720" y="549360"/>
            <a:ext cx="3384720" cy="2247840"/>
          </a:xfrm>
          <a:prstGeom prst="rect">
            <a:avLst/>
          </a:prstGeom>
          <a:ln w="216000">
            <a:solidFill>
              <a:srgbClr val="ff6600"/>
            </a:solidFill>
            <a:miter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539640" y="476280"/>
            <a:ext cx="2981520" cy="2263680"/>
          </a:xfrm>
          <a:prstGeom prst="rect">
            <a:avLst/>
          </a:prstGeom>
          <a:ln w="203040">
            <a:solidFill>
              <a:srgbClr val="ff6600"/>
            </a:solidFill>
            <a:miter/>
          </a:ln>
        </p:spPr>
      </p:pic>
      <p:sp>
        <p:nvSpPr>
          <p:cNvPr id="43" name=""/>
          <p:cNvSpPr/>
          <p:nvPr/>
        </p:nvSpPr>
        <p:spPr>
          <a:xfrm>
            <a:off x="1692360" y="4076640"/>
            <a:ext cx="6335640" cy="2232000"/>
          </a:xfrm>
          <a:prstGeom prst="bevel">
            <a:avLst>
              <a:gd name="adj" fmla="val 125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eestyle Script"/>
              </a:rPr>
              <a:t>laman street cha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oper Black"/>
              </a:rPr>
              <a:t>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0:33:37Z</dcterms:created>
  <dc:creator>EMILY.WHELAN</dc:creator>
  <dc:description/>
  <dc:language>en-US</dc:language>
  <cp:lastModifiedBy>EMILY.WHELAN</cp:lastModifiedBy>
  <dcterms:modified xsi:type="dcterms:W3CDTF">2010-08-31T00:56:37Z</dcterms:modified>
  <cp:revision>2</cp:revision>
  <dc:subject/>
  <dc:title>Slide 1</dc:title>
</cp:coreProperties>
</file>