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31C9-3F22-41D4-9ED3-B63113C8F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D011-BF1B-43F7-8969-6CD9A11DB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7EAD-98E0-450A-8266-0E88BD52B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873C-7DC6-480F-8FB6-307800C3B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1CCD-54F6-4CB3-9408-5BF400174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307B-C9EA-4FAA-959A-E32F509E2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2DFA-50B0-4A63-BC22-BB1AB41DA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75CA-2B8A-41C4-8187-3D81F31C8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B8D6-5F86-4A41-A822-A26E3A571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814F-A225-4EBA-9F07-C6DAA1C3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CED5-6050-47D7-86AC-6C1B622E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41C3-799B-48E2-BBB1-9595371D6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6CE01-275E-418C-8DBB-1E0664D0BC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076720" y="549360"/>
            <a:ext cx="3384720" cy="2247840"/>
          </a:xfrm>
          <a:prstGeom prst="rect">
            <a:avLst/>
          </a:prstGeom>
          <a:ln w="216000">
            <a:solidFill>
              <a:srgbClr val="ff6600"/>
            </a:solidFill>
            <a:miter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39640" y="476280"/>
            <a:ext cx="2981520" cy="2263680"/>
          </a:xfrm>
          <a:prstGeom prst="rect">
            <a:avLst/>
          </a:prstGeom>
          <a:ln w="203040">
            <a:solidFill>
              <a:srgbClr val="ff6600"/>
            </a:solidFill>
            <a:miter/>
          </a:ln>
        </p:spPr>
      </p:pic>
      <p:sp>
        <p:nvSpPr>
          <p:cNvPr id="43" name=""/>
          <p:cNvSpPr/>
          <p:nvPr/>
        </p:nvSpPr>
        <p:spPr>
          <a:xfrm>
            <a:off x="1692360" y="4076640"/>
            <a:ext cx="6335640" cy="2232000"/>
          </a:xfrm>
          <a:prstGeom prst="bevel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eestyle Script"/>
              </a:rPr>
              <a:t>laman street ch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0:33:37Z</dcterms:created>
  <dc:creator>EMILY.WHELAN</dc:creator>
  <dc:description/>
  <dc:language>en-US</dc:language>
  <cp:lastModifiedBy>EMILY.WHELAN</cp:lastModifiedBy>
  <dcterms:modified xsi:type="dcterms:W3CDTF">2010-08-31T00:56:37Z</dcterms:modified>
  <cp:revision>2</cp:revision>
  <dc:subject/>
  <dc:title>Slide 1</dc:title>
</cp:coreProperties>
</file>