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9555-AC25-4B34-AD86-1456BA1F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6CD6-4AC9-4586-907A-6B1CE572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D9C9-6BC4-4784-ACB3-69B7FD6DD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1E4C-21B6-4926-B58A-429912A0A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3D88-CB25-4383-B131-1E0A117D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B4B0-D78F-46C6-AD8E-2D397ADC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8314-BED0-4B3F-B404-F9C0C421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A6F8-15AD-4F01-A490-5087E9E9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0E35-DF2E-4D1E-8DBB-1C5F2CC7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3465-22B4-4237-989E-A7DE9C09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56A7-9C77-4CDE-9DC4-49CD8740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29BA-197A-4ED7-A697-67C12533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7DD6-AE48-46A5-B4F0-AC6C16403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076720" y="549360"/>
            <a:ext cx="3384720" cy="2247840"/>
          </a:xfrm>
          <a:prstGeom prst="rect">
            <a:avLst/>
          </a:prstGeom>
          <a:ln w="216000">
            <a:solidFill>
              <a:srgbClr val="ff66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2981520" cy="2263680"/>
          </a:xfrm>
          <a:prstGeom prst="rect">
            <a:avLst/>
          </a:prstGeom>
          <a:ln w="203040">
            <a:solidFill>
              <a:srgbClr val="ff66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1692360" y="4076640"/>
            <a:ext cx="6335640" cy="223200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eestyle Script"/>
              </a:rPr>
              <a:t>laman street c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0:33:37Z</dcterms:created>
  <dc:creator>EMILY.WHELAN</dc:creator>
  <dc:description/>
  <dc:language>en-US</dc:language>
  <cp:lastModifiedBy>EMILY.WHELAN</cp:lastModifiedBy>
  <dcterms:modified xsi:type="dcterms:W3CDTF">2010-08-31T00:56:37Z</dcterms:modified>
  <cp:revision>2</cp:revision>
  <dc:subject/>
  <dc:title>Slide 1</dc:title>
</cp:coreProperties>
</file>