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FF9-3CB5-4CEC-B513-218F32FE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F8D-8D74-4CDC-A4F9-6587E730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032-43C3-469C-84DA-55EA11A0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656-7C45-47E9-B93D-77B804CB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233-09DA-401B-B5FE-7B85C012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581-20A0-45EA-80E0-F4B5171E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72C4-B274-419E-921A-85CBAF4E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75F-21A3-4A90-8729-E7510D48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F4E-DEA7-4B0F-BE01-4146529F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483-8EFC-48E3-AC2F-793D7DB1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E11-4B3A-46E7-BE79-6D563AB0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10EE-BFD6-4B96-95C5-8C77AF6C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2FFE-872A-4D12-A94E-54CBF41A4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600720" cy="241776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097440" cy="278280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908000" y="4149720"/>
            <a:ext cx="5904000" cy="18716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Laman St  Fig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Dog ke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This is a part of history 1930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5:13Z</dcterms:created>
  <dc:creator>alexis.kik</dc:creator>
  <dc:description/>
  <dc:language>en-US</dc:language>
  <cp:lastModifiedBy>alexis.kik</cp:lastModifiedBy>
  <dcterms:modified xsi:type="dcterms:W3CDTF">2010-08-31T01:04:27Z</dcterms:modified>
  <cp:revision>3</cp:revision>
  <dc:subject/>
  <dc:title>Slide 1</dc:title>
</cp:coreProperties>
</file>