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1341-3F32-4AD6-8178-76F3AE95D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F1DF-F66F-4398-8D91-632D7F53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90B3-A73C-4B47-B3E8-F6455E222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257D-52C5-437A-8879-FF60413A1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EE21-D564-47DB-9588-D7D147B3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FB31-AAE6-48B4-88A8-EFEEF961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F640-B632-475F-B2C0-70441789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5E98-9398-48DF-B2C3-A1424EAC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AA72-FFD5-4D68-B306-64CDBE20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9070-3C16-4F09-B43C-7FCCA74F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34CB-5455-4438-9327-E854205D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585B-0BA8-4121-8E2C-4F9EAFC1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7AC1-B0E1-4085-BF96-B2F2598C4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076720" y="692280"/>
            <a:ext cx="3600720" cy="2417760"/>
          </a:xfrm>
          <a:prstGeom prst="rect">
            <a:avLst/>
          </a:prstGeom>
          <a:ln w="177840">
            <a:solidFill>
              <a:srgbClr val="00ff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3097440" cy="2782800"/>
          </a:xfrm>
          <a:prstGeom prst="rect">
            <a:avLst/>
          </a:prstGeom>
          <a:ln w="177840">
            <a:solidFill>
              <a:srgbClr val="00ff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1908000" y="4149720"/>
            <a:ext cx="5904000" cy="187164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dwardian Script ITC"/>
              </a:rPr>
              <a:t>Laman St  Fig tr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dwardian Script ITC"/>
              </a:rPr>
              <a:t>Dog ke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dwardian Script ITC"/>
              </a:rPr>
              <a:t>This is a part of history 1930-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0:35:13Z</dcterms:created>
  <dc:creator>alexis.kik</dc:creator>
  <dc:description/>
  <dc:language>en-US</dc:language>
  <cp:lastModifiedBy>alexis.kik</cp:lastModifiedBy>
  <dcterms:modified xsi:type="dcterms:W3CDTF">2010-08-31T01:04:27Z</dcterms:modified>
  <cp:revision>3</cp:revision>
  <dc:subject/>
  <dc:title>Slide 1</dc:title>
</cp:coreProperties>
</file>