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59C2-E05E-42B4-99D4-812F64549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532D-8974-4640-8998-8C36C7884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A56A-4485-4BB0-BA45-A886E28FE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11EC-8A76-499C-83D8-9BF3A52C0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5644-C6DA-41B5-9156-BA786D713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EACC-4EEF-4780-B0EE-98CE2DE84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56FD-C35E-47D6-8AD9-A2F4C808C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3FDD-83D3-4B9C-8AA1-891A8ACA8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A3B0-AB54-4DF7-8666-2FDB2D499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9F0A-8EBD-46D6-AA1A-4460D25B3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1E17-7CB6-4909-8EDC-801BDB4A3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067F-EFFF-416E-AC4F-DA02BB5AF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D0FB4-6824-4114-8570-2445F1ECEA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076720" y="692280"/>
            <a:ext cx="3600720" cy="2417760"/>
          </a:xfrm>
          <a:prstGeom prst="rect">
            <a:avLst/>
          </a:prstGeom>
          <a:ln w="177840">
            <a:solidFill>
              <a:srgbClr val="00ff00"/>
            </a:solidFill>
            <a:miter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39640" y="692280"/>
            <a:ext cx="3097440" cy="2782800"/>
          </a:xfrm>
          <a:prstGeom prst="rect">
            <a:avLst/>
          </a:prstGeom>
          <a:ln w="177840">
            <a:solidFill>
              <a:srgbClr val="00ff00"/>
            </a:solidFill>
            <a:miter/>
          </a:ln>
        </p:spPr>
      </p:pic>
      <p:sp>
        <p:nvSpPr>
          <p:cNvPr id="43" name=""/>
          <p:cNvSpPr/>
          <p:nvPr/>
        </p:nvSpPr>
        <p:spPr>
          <a:xfrm>
            <a:off x="1908000" y="4149720"/>
            <a:ext cx="5904000" cy="1871640"/>
          </a:xfrm>
          <a:prstGeom prst="bevel">
            <a:avLst>
              <a:gd name="adj" fmla="val 12500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dwardian Script ITC"/>
              </a:rPr>
              <a:t>Laman St  Fig tr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dwardian Script ITC"/>
              </a:rPr>
              <a:t>Dog ke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dwardian Script ITC"/>
              </a:rPr>
              <a:t>This is a part of history 1930-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0:35:13Z</dcterms:created>
  <dc:creator>alexis.kik</dc:creator>
  <dc:description/>
  <dc:language>en-US</dc:language>
  <cp:lastModifiedBy>alexis.kik</cp:lastModifiedBy>
  <dcterms:modified xsi:type="dcterms:W3CDTF">2010-08-31T01:04:27Z</dcterms:modified>
  <cp:revision>3</cp:revision>
  <dc:subject/>
  <dc:title>Slide 1</dc:title>
</cp:coreProperties>
</file>