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4DF-9D18-4899-A9E0-C6946638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406-D45A-43E9-8DCA-D64219A7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799-7EDF-480F-B729-3ADE12A3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3D9-DA2B-41BF-A5FA-240BBC1A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8B0F-6061-40E3-9FB5-9D4D53E6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6F7-4489-4239-92EF-34FF4E91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E80-AAA4-48DE-B3DC-83893439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3EF-2CE7-4752-880C-0CF47A7E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148-84B0-4C38-BE18-5334DD14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E5F-E512-4989-9D64-73AC06AC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994-31B9-4AED-86C4-66B5D343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372-E176-4107-B8D7-0DC0C6F7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175E-36A0-4E60-B4BE-E3800CEE9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600720" cy="241776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097440" cy="278280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908000" y="4149720"/>
            <a:ext cx="5904000" cy="18716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Laman St  Fig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Dog ke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This is a part of history 1930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5:13Z</dcterms:created>
  <dc:creator>alexis.kik</dc:creator>
  <dc:description/>
  <dc:language>en-US</dc:language>
  <cp:lastModifiedBy>alexis.kik</cp:lastModifiedBy>
  <dcterms:modified xsi:type="dcterms:W3CDTF">2010-08-31T01:04:27Z</dcterms:modified>
  <cp:revision>3</cp:revision>
  <dc:subject/>
  <dc:title>Slide 1</dc:title>
</cp:coreProperties>
</file>