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8737-04BB-41E6-AD10-9109F8957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E58E-5299-4CFC-8A03-26A097DB6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5FDE-6A3B-4D35-9DA1-273ADAC49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F7C6-3A0F-459C-A3F3-99DC90BEC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0ECA-EC7C-4657-A99C-F72738212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B6E4-FEBE-4452-B5BE-CE6FFDECB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724B-9B1D-4E2D-B9B2-4DDBF61DC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5D09-F4B4-4C8A-BB4F-7F788587E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65B8-0BD7-4543-AA8B-3A203F7C9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32AD-D7CA-4A74-A7F7-2C3AD6201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B249-457F-4221-9560-BEE0EE63A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BB79-52EB-4A1D-B1C0-7129C7809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E7C14-5D96-4E69-89C3-BA7A8F14BA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008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076720" y="692280"/>
            <a:ext cx="3600720" cy="2417760"/>
          </a:xfrm>
          <a:prstGeom prst="rect">
            <a:avLst/>
          </a:prstGeom>
          <a:ln w="177840">
            <a:solidFill>
              <a:srgbClr val="00ff00"/>
            </a:solidFill>
            <a:miter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539640" y="692280"/>
            <a:ext cx="3097440" cy="2782800"/>
          </a:xfrm>
          <a:prstGeom prst="rect">
            <a:avLst/>
          </a:prstGeom>
          <a:ln w="177840">
            <a:solidFill>
              <a:srgbClr val="00ff00"/>
            </a:solidFill>
            <a:miter/>
          </a:ln>
        </p:spPr>
      </p:pic>
      <p:sp>
        <p:nvSpPr>
          <p:cNvPr id="43" name=""/>
          <p:cNvSpPr/>
          <p:nvPr/>
        </p:nvSpPr>
        <p:spPr>
          <a:xfrm>
            <a:off x="1908000" y="4149720"/>
            <a:ext cx="5904000" cy="1871640"/>
          </a:xfrm>
          <a:prstGeom prst="bevel">
            <a:avLst>
              <a:gd name="adj" fmla="val 12500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dwardian Script ITC"/>
              </a:rPr>
              <a:t>Laman St  Fig tr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dwardian Script ITC"/>
              </a:rPr>
              <a:t>Dog kenn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dwardian Script ITC"/>
              </a:rPr>
              <a:t>This is a part of history 1930-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0:35:13Z</dcterms:created>
  <dc:creator>alexis.kik</dc:creator>
  <dc:description/>
  <dc:language>en-US</dc:language>
  <cp:lastModifiedBy>alexis.kik</cp:lastModifiedBy>
  <dcterms:modified xsi:type="dcterms:W3CDTF">2010-08-31T01:04:27Z</dcterms:modified>
  <cp:revision>3</cp:revision>
  <dc:subject/>
  <dc:title>Slide 1</dc:title>
</cp:coreProperties>
</file>