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3FD-2EE1-49C0-BF55-330929BB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35C-E182-4FDB-935C-86CBB3C6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6D0-CC9D-4351-8BFB-A3713E03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2DD-0308-478F-903B-CEDAC492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301-48BA-402C-97FD-B9957048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1A6-1F77-40E2-9800-668FE09E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039-9E5A-4197-8AE9-BE48690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384-0C55-48CA-8972-82A78DD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0F0-57A8-43A1-94FA-B18F93D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194-2DF9-47FA-A03B-E861192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B17-F1C9-44B5-AAF4-F6D1FC6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6F6-C3E9-4825-99A8-C0C431F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0EE-BE87-4829-A826-A63A538B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1:04:27Z</dcterms:modified>
  <cp:revision>3</cp:revision>
  <dc:subject/>
  <dc:title>Slide 1</dc:title>
</cp:coreProperties>
</file>