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12A-1C1D-434B-8713-FC9D0755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963-039E-4149-8710-726DFACD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326-1340-48FC-9D99-8FB1A80B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979-CD11-4FCC-8486-CFF84E91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EDC-338C-4A61-AD7D-15742AA9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404-5A06-40A4-A54E-6649682A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F30-87B4-4D0C-8AEE-07080A5A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36A-5401-4D0B-B5A1-39E68D8A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9D0-36F6-4DE8-B0BC-863C07C2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C64-033C-42DA-968A-7007AFC2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6C4-3179-47DB-BF64-0B90D0C2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C37-AA1F-4560-B247-DD66884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8B38-C840-4FB1-B8DC-FCF2B9243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384720" cy="2247840"/>
          </a:xfrm>
          <a:prstGeom prst="rect">
            <a:avLst/>
          </a:prstGeom>
          <a:ln w="216000">
            <a:solidFill>
              <a:srgbClr val="ff66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981520" cy="2263680"/>
          </a:xfrm>
          <a:prstGeom prst="rect">
            <a:avLst/>
          </a:prstGeom>
          <a:ln w="203040">
            <a:solidFill>
              <a:srgbClr val="ff6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92360" y="4076640"/>
            <a:ext cx="6335640" cy="2232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estyle Script"/>
              </a:rPr>
              <a:t>laman street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37Z</dcterms:created>
  <dc:creator>EMILY.WHELAN</dc:creator>
  <dc:description/>
  <dc:language>en-US</dc:language>
  <cp:lastModifiedBy>EMILY.WHELAN</cp:lastModifiedBy>
  <dcterms:modified xsi:type="dcterms:W3CDTF">2010-08-31T01:04:32Z</dcterms:modified>
  <cp:revision>2</cp:revision>
  <dc:subject/>
  <dc:title>Slide 1</dc:title>
</cp:coreProperties>
</file>