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C76-6CC0-4EF0-9ED0-4168BA75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B99-4A9C-4563-B60E-3FAEBEB0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AB3-0EC2-41AA-A0C5-5204BDF4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3E1-8B5D-47C2-AED4-E8AE4A21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288-0CA1-4EB9-8B0E-ADABD50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1A9-708E-435A-AF00-92875D1C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F14-16E4-42B4-973A-946FE88E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F01-AF80-499E-9643-A2D1DA73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627-5917-4052-BD13-3BAB5283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77B-5C57-415B-B15F-A65D7E5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D27-B3A3-4116-A9D6-63CD7FA5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736-ECA8-43B1-9D99-90CB2C9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6D72-810D-4C9A-9EBF-C55BA15C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1:04:32Z</dcterms:modified>
  <cp:revision>2</cp:revision>
  <dc:subject/>
  <dc:title>Slide 1</dc:title>
</cp:coreProperties>
</file>