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7F7-7758-4E0F-AA65-0B7AC6E0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B51-674D-47A5-8BE8-E62A19E1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D94-14B6-4286-AC1F-A2AB0D94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5BA-CBEA-42DC-8DB3-45B5565B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C85-F55E-42EE-89D3-D82917A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C3D-5E60-4548-8ABB-323F02FF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BA5-5EC5-486E-B4C0-CDB40F5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2FC-EE42-4938-AE62-BCF625C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A9D-F9C6-4730-8177-C9E01DE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65C-C9D9-4477-95C1-9E3F424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25D-B76A-4A57-8FE2-9D6102C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893-D6F8-41C0-8669-B206887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B123-5755-46A5-A675-8A6221D4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1:04:32Z</dcterms:modified>
  <cp:revision>2</cp:revision>
  <dc:subject/>
  <dc:title>Slide 1</dc:title>
</cp:coreProperties>
</file>