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A6B-953C-4348-A282-485861F5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562-FE4A-4AC5-830B-127B11C8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7A7-F50B-40EF-B1F4-777290BB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DAA-12BF-41EB-B072-854654AD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C3F-A0D1-463D-B1AF-C159CCE1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5F3-4C96-4445-BF1D-7DA76BD6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A9D-A3DC-40A5-952D-3507B986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592-C617-4E0C-9C2F-5B300B12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707-B834-4793-A14C-151B7E9E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127-D195-4308-87E7-F7B96F2C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BF5-8869-4D48-8FA7-2D8F0BF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D61-F611-4924-A655-FDC40093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3D11-8C91-4416-B206-5EDE8DF28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384720" cy="2247840"/>
          </a:xfrm>
          <a:prstGeom prst="rect">
            <a:avLst/>
          </a:prstGeom>
          <a:ln w="216000">
            <a:solidFill>
              <a:srgbClr val="ff66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981520" cy="2263680"/>
          </a:xfrm>
          <a:prstGeom prst="rect">
            <a:avLst/>
          </a:prstGeom>
          <a:ln w="203040">
            <a:solidFill>
              <a:srgbClr val="ff6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92360" y="4076640"/>
            <a:ext cx="6335640" cy="2232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estyle Script"/>
              </a:rPr>
              <a:t>laman street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37Z</dcterms:created>
  <dc:creator>EMILY.WHELAN</dc:creator>
  <dc:description/>
  <dc:language>en-US</dc:language>
  <cp:lastModifiedBy>EMILY.WHELAN</cp:lastModifiedBy>
  <dcterms:modified xsi:type="dcterms:W3CDTF">2010-08-31T01:04:32Z</dcterms:modified>
  <cp:revision>2</cp:revision>
  <dc:subject/>
  <dc:title>Slide 1</dc:title>
</cp:coreProperties>
</file>