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E4A-0EC3-4731-989E-49B00B07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CEF-4740-4598-B7C9-FB36DE3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753-F683-4509-BD12-F2782BAA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6D8-A0F1-46DC-BF94-2F404AFE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81-664B-4E2B-8B05-2B39192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7C2-AC18-4F61-A4EE-39BEA926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809-C4B3-49FB-AFCB-51DA2E6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27D-7AEE-462D-B7D0-A4F598F0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B0D-B50C-4E3A-8674-59AC826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FF8-DF14-4D54-B384-985F4AC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791-71E5-45A3-A9D8-1D65B59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723-792E-401C-8F93-B43CA8E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1646-F56F-49B6-AE3A-475529B0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0:54:39Z</dcterms:modified>
  <cp:revision>3</cp:revision>
  <dc:subject/>
  <dc:title>Slide 1</dc:title>
</cp:coreProperties>
</file>