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1D3-D999-4297-9F2C-26D01FB1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8BB-D4F2-4649-9E63-31A3A7E2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FBD-785D-460A-AAC0-3770FAFE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692-D5E2-435A-B562-3A9E089B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EBD-BFBE-45C1-B074-3CFDCB23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A23-C1CF-485D-8D56-B430176A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744-80E1-4934-A484-5731571E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A79-ACB0-4AB5-BAA3-3E50A7A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7C5-7913-42C8-8EA3-1E5B7FC2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FAF-C2B3-493F-B928-92793F18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EE2-0081-4AB7-8500-8A8A24B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A42-ADA2-481F-A6B2-1B2758DE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43CD-68B2-478A-9752-3B08C3B3F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41776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097440" cy="278280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08000" y="4149720"/>
            <a:ext cx="5904000" cy="1871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aman St  Fig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Dog ke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This is a part of history 1930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5:13Z</dcterms:created>
  <dc:creator>alexis.kik</dc:creator>
  <dc:description/>
  <dc:language>en-US</dc:language>
  <cp:lastModifiedBy>alexis.kik</cp:lastModifiedBy>
  <dcterms:modified xsi:type="dcterms:W3CDTF">2010-08-31T00:54:39Z</dcterms:modified>
  <cp:revision>3</cp:revision>
  <dc:subject/>
  <dc:title>Slide 1</dc:title>
</cp:coreProperties>
</file>