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E6D-F8DB-4BA9-B2FD-EE75FF7B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329-D071-4F3F-9A8D-F077DEC7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3E7-869B-4F75-A151-CBB54E1E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D0F-7C45-4166-930F-B43E1271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F69-E1FA-4365-A8F7-3C0E858E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651-76A4-4791-AF2E-01725853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245-5D13-4843-8148-410DCE9F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C4D-9F6C-41B0-98C8-C3E07BF6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0F3-E31E-4F55-B5C8-EAB1B6DB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010D-BD72-43C2-AD26-32C996BB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96D-32E4-40F6-9FFF-F5A0BDE4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821-446D-4D27-B8BB-ED115799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A490-020E-4B72-B991-A9EFAE76C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600720" cy="241776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097440" cy="278280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908000" y="4149720"/>
            <a:ext cx="5904000" cy="18716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Laman St  Fig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Dog ke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This is a part of history 1930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5:13Z</dcterms:created>
  <dc:creator>alexis.kik</dc:creator>
  <dc:description/>
  <dc:language>en-US</dc:language>
  <cp:lastModifiedBy>alexis.kik</cp:lastModifiedBy>
  <dcterms:modified xsi:type="dcterms:W3CDTF">2010-08-31T00:54:39Z</dcterms:modified>
  <cp:revision>3</cp:revision>
  <dc:subject/>
  <dc:title>Slide 1</dc:title>
</cp:coreProperties>
</file>