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04B-154E-4738-B78D-2D7E71E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12A-D9B3-410A-9D6B-1A5AB8FF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36B-A2B5-4EA6-BE28-6CF27C96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E22-2A28-4AB7-9EBA-12E6BE57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A8B-9A99-47C7-AA4E-881D503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57E-47F4-40C8-A2A1-E0F2AC90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EF0-90C9-476F-8941-1EE640F9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D84-5ABA-405A-9B37-921E8A54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209-F0D7-4C07-B452-B2FD1426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264-33A2-4468-9DEE-E89D78E9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F3C-C794-498B-BB1B-D60A0F1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A5E-876E-480B-9FDD-5B48652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593-80C0-4576-AAF2-3F640E64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41776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097440" cy="2782800"/>
          </a:xfrm>
          <a:prstGeom prst="rect">
            <a:avLst/>
          </a:prstGeom>
          <a:ln w="177840">
            <a:solidFill>
              <a:srgbClr val="00ff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08000" y="4149720"/>
            <a:ext cx="5904000" cy="1871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aman St  Fig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Dog ke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This is a part of history 1930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5:13Z</dcterms:created>
  <dc:creator>alexis.kik</dc:creator>
  <dc:description/>
  <dc:language>en-US</dc:language>
  <cp:lastModifiedBy>alexis.kik</cp:lastModifiedBy>
  <dcterms:modified xsi:type="dcterms:W3CDTF">2010-08-31T00:54:39Z</dcterms:modified>
  <cp:revision>3</cp:revision>
  <dc:subject/>
  <dc:title>Slide 1</dc:title>
</cp:coreProperties>
</file>