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CC3-E997-4170-8A4E-D7619097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F9B-589C-48FD-B345-AB270423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DBB-1A11-4F8D-9024-B22035D6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399-8044-410C-96E0-DDB2DD4B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F3A-0168-42DB-8F07-49C1CB5A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5ED-6872-4D9C-92AE-0A298EE9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8AB-FE3D-49F2-A604-272FF871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FA7-A451-4C57-9C02-A0DB5C37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A6B-2BF6-4831-990C-8E079B02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1B5-DC8C-4A13-97ED-F37B3B74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8F8-E41F-4B92-B78C-580BCB50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FAB-0031-43A5-8E41-4C6D6A21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61E8-B308-48DD-B197-7416A0CB8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564000" cy="23716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3311280" cy="3097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43" name="UpRibbonSharp"/>
          <p:cNvSpPr/>
          <p:nvPr/>
        </p:nvSpPr>
        <p:spPr>
          <a:xfrm>
            <a:off x="1979640" y="4508640"/>
            <a:ext cx="5905440" cy="1795320"/>
          </a:xfrm>
          <a:custGeom>
            <a:avLst/>
            <a:gdLst>
              <a:gd name="textAreaLeft" fmla="*/ 1447560 w 5905440"/>
              <a:gd name="textAreaRight" fmla="*/ 4457880 w 5905440"/>
              <a:gd name="textAreaTop" fmla="*/ 0 h 1795320"/>
              <a:gd name="textAreaBottom" fmla="*/ 1612800 h 1795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7995" y="21600"/>
                </a:lnTo>
                <a:lnTo>
                  <a:pt x="7995" y="19404"/>
                </a:lnTo>
                <a:lnTo>
                  <a:pt x="13605" y="19404"/>
                </a:lnTo>
                <a:lnTo>
                  <a:pt x="13605" y="21600"/>
                </a:lnTo>
                <a:lnTo>
                  <a:pt x="21600" y="21600"/>
                </a:lnTo>
                <a:lnTo>
                  <a:pt x="18900" y="11898"/>
                </a:lnTo>
                <a:lnTo>
                  <a:pt x="21600" y="2196"/>
                </a:lnTo>
                <a:lnTo>
                  <a:pt x="16305" y="2196"/>
                </a:lnTo>
                <a:lnTo>
                  <a:pt x="16305" y="0"/>
                </a:lnTo>
                <a:lnTo>
                  <a:pt x="5295" y="0"/>
                </a:lnTo>
                <a:lnTo>
                  <a:pt x="5295" y="2196"/>
                </a:lnTo>
                <a:lnTo>
                  <a:pt x="0" y="2196"/>
                </a:lnTo>
                <a:lnTo>
                  <a:pt x="2700" y="11898"/>
                </a:lnTo>
                <a:close/>
              </a:path>
              <a:path fill="none" w="21600" h="21600">
                <a:moveTo>
                  <a:pt x="7995" y="19404"/>
                </a:moveTo>
                <a:lnTo>
                  <a:pt x="5295" y="19404"/>
                </a:lnTo>
                <a:lnTo>
                  <a:pt x="5295" y="2196"/>
                </a:lnTo>
              </a:path>
              <a:path fill="none" w="21600" h="21600">
                <a:moveTo>
                  <a:pt x="5295" y="19404"/>
                </a:moveTo>
                <a:lnTo>
                  <a:pt x="7995" y="21600"/>
                </a:lnTo>
              </a:path>
              <a:path fill="none" w="21600" h="21600">
                <a:moveTo>
                  <a:pt x="13605" y="19404"/>
                </a:moveTo>
                <a:lnTo>
                  <a:pt x="16305" y="19404"/>
                </a:lnTo>
                <a:lnTo>
                  <a:pt x="16305" y="2196"/>
                </a:lnTo>
              </a:path>
              <a:path fill="none" w="21600" h="21600">
                <a:moveTo>
                  <a:pt x="16305" y="19404"/>
                </a:moveTo>
                <a:lnTo>
                  <a:pt x="1360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4653000"/>
            <a:ext cx="302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Laman St out door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i="1" lang="en-AU" sz="2400" spc="-1" strike="noStrike">
                <a:solidFill>
                  <a:srgbClr val="000000"/>
                </a:solidFill>
                <a:latin typeface="Bookman Old Style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0:33:45Z</dcterms:created>
  <dc:creator>tanisha.cragg</dc:creator>
  <dc:description/>
  <dc:language>en-US</dc:language>
  <cp:lastModifiedBy>tanisha.cragg</cp:lastModifiedBy>
  <dcterms:modified xsi:type="dcterms:W3CDTF">2010-08-31T01:07:50Z</dcterms:modified>
  <cp:revision>2</cp:revision>
  <dc:subject/>
  <dc:title>Slide 1</dc:title>
</cp:coreProperties>
</file>