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4DF-A102-4594-85ED-5865858C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363-3C4A-4043-9273-5C297E2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BD2-00EA-4CE0-91B6-97EAECC3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D9C-7CD9-4512-BED2-605B8A7E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FD4-2DFB-40C0-9406-B343C9E7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4DA-0001-4317-88DB-65E79F66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AA2-34DE-4952-829A-ECDBA27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98F-6BDB-4295-BD6B-4C7DB5F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548-3835-49A4-B58A-EF1C3FB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729-5336-4C31-B354-731A77B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1B3-069A-4E84-A408-5D8C75A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C92-FD2B-4AA0-B708-A75D20B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8163-0DB6-43C8-B00B-60670F28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64000" cy="2371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311280" cy="3097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3" name="UpRibbonSharp"/>
          <p:cNvSpPr/>
          <p:nvPr/>
        </p:nvSpPr>
        <p:spPr>
          <a:xfrm>
            <a:off x="1979640" y="4508640"/>
            <a:ext cx="5905440" cy="1795320"/>
          </a:xfrm>
          <a:custGeom>
            <a:avLst/>
            <a:gdLst>
              <a:gd name="textAreaLeft" fmla="*/ 1447560 w 5905440"/>
              <a:gd name="textAreaRight" fmla="*/ 4457880 w 5905440"/>
              <a:gd name="textAreaTop" fmla="*/ 0 h 1795320"/>
              <a:gd name="textAreaBottom" fmla="*/ 161280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995" y="21600"/>
                </a:lnTo>
                <a:lnTo>
                  <a:pt x="7995" y="19404"/>
                </a:lnTo>
                <a:lnTo>
                  <a:pt x="13605" y="19404"/>
                </a:lnTo>
                <a:lnTo>
                  <a:pt x="13605" y="21600"/>
                </a:lnTo>
                <a:lnTo>
                  <a:pt x="21600" y="21600"/>
                </a:lnTo>
                <a:lnTo>
                  <a:pt x="18900" y="11898"/>
                </a:lnTo>
                <a:lnTo>
                  <a:pt x="21600" y="2196"/>
                </a:lnTo>
                <a:lnTo>
                  <a:pt x="16305" y="2196"/>
                </a:lnTo>
                <a:lnTo>
                  <a:pt x="16305" y="0"/>
                </a:lnTo>
                <a:lnTo>
                  <a:pt x="5295" y="0"/>
                </a:lnTo>
                <a:lnTo>
                  <a:pt x="5295" y="2196"/>
                </a:lnTo>
                <a:lnTo>
                  <a:pt x="0" y="2196"/>
                </a:lnTo>
                <a:lnTo>
                  <a:pt x="2700" y="11898"/>
                </a:lnTo>
                <a:close/>
              </a:path>
              <a:path fill="none" w="21600" h="21600">
                <a:moveTo>
                  <a:pt x="7995" y="19404"/>
                </a:moveTo>
                <a:lnTo>
                  <a:pt x="5295" y="19404"/>
                </a:lnTo>
                <a:lnTo>
                  <a:pt x="5295" y="2196"/>
                </a:lnTo>
              </a:path>
              <a:path fill="none" w="21600" h="21600">
                <a:moveTo>
                  <a:pt x="5295" y="19404"/>
                </a:moveTo>
                <a:lnTo>
                  <a:pt x="7995" y="21600"/>
                </a:lnTo>
              </a:path>
              <a:path fill="none" w="21600" h="21600">
                <a:moveTo>
                  <a:pt x="13605" y="19404"/>
                </a:moveTo>
                <a:lnTo>
                  <a:pt x="16305" y="19404"/>
                </a:lnTo>
                <a:lnTo>
                  <a:pt x="16305" y="2196"/>
                </a:lnTo>
              </a:path>
              <a:path fill="none" w="21600" h="21600">
                <a:moveTo>
                  <a:pt x="16305" y="19404"/>
                </a:moveTo>
                <a:lnTo>
                  <a:pt x="1360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65300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Laman St out door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5Z</dcterms:created>
  <dc:creator>tanisha.cragg</dc:creator>
  <dc:description/>
  <dc:language>en-US</dc:language>
  <cp:lastModifiedBy>tanisha.cragg</cp:lastModifiedBy>
  <dcterms:modified xsi:type="dcterms:W3CDTF">2010-08-31T01:07:50Z</dcterms:modified>
  <cp:revision>2</cp:revision>
  <dc:subject/>
  <dc:title>Slide 1</dc:title>
</cp:coreProperties>
</file>