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F2E9-20C2-4932-BA09-5B172EBE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0B0-5499-4BD8-9CDC-3C7447F1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20A6-CB4C-4575-8AED-30D7F0D5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DBC3-812C-47A2-97BB-5B752044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572-8897-4A3C-8FBA-399A8BDB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BBA0-2F82-45B4-B6CC-EA59D919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D34-EEAC-4FD3-A460-B22565E7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6FB-A4FE-4A36-9E41-3C564765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FB7-924E-44EE-A769-F04F09D2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33E-75F2-4255-B996-9EF8F1EF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650-CE89-4D74-B844-F94397F1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B04-5977-4BE7-93BB-F14EAC00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6C06-1F48-4D07-A891-9979421D1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564000" cy="23716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3311280" cy="3097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43" name="UpRibbonSharp"/>
          <p:cNvSpPr/>
          <p:nvPr/>
        </p:nvSpPr>
        <p:spPr>
          <a:xfrm>
            <a:off x="1979640" y="4508640"/>
            <a:ext cx="5905440" cy="1795320"/>
          </a:xfrm>
          <a:custGeom>
            <a:avLst/>
            <a:gdLst>
              <a:gd name="textAreaLeft" fmla="*/ 1447560 w 5905440"/>
              <a:gd name="textAreaRight" fmla="*/ 4457880 w 5905440"/>
              <a:gd name="textAreaTop" fmla="*/ 0 h 1795320"/>
              <a:gd name="textAreaBottom" fmla="*/ 1612800 h 1795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7995" y="21600"/>
                </a:lnTo>
                <a:lnTo>
                  <a:pt x="7995" y="19404"/>
                </a:lnTo>
                <a:lnTo>
                  <a:pt x="13605" y="19404"/>
                </a:lnTo>
                <a:lnTo>
                  <a:pt x="13605" y="21600"/>
                </a:lnTo>
                <a:lnTo>
                  <a:pt x="21600" y="21600"/>
                </a:lnTo>
                <a:lnTo>
                  <a:pt x="18900" y="11898"/>
                </a:lnTo>
                <a:lnTo>
                  <a:pt x="21600" y="2196"/>
                </a:lnTo>
                <a:lnTo>
                  <a:pt x="16305" y="2196"/>
                </a:lnTo>
                <a:lnTo>
                  <a:pt x="16305" y="0"/>
                </a:lnTo>
                <a:lnTo>
                  <a:pt x="5295" y="0"/>
                </a:lnTo>
                <a:lnTo>
                  <a:pt x="5295" y="2196"/>
                </a:lnTo>
                <a:lnTo>
                  <a:pt x="0" y="2196"/>
                </a:lnTo>
                <a:lnTo>
                  <a:pt x="2700" y="11898"/>
                </a:lnTo>
                <a:close/>
              </a:path>
              <a:path fill="none" w="21600" h="21600">
                <a:moveTo>
                  <a:pt x="7995" y="19404"/>
                </a:moveTo>
                <a:lnTo>
                  <a:pt x="5295" y="19404"/>
                </a:lnTo>
                <a:lnTo>
                  <a:pt x="5295" y="2196"/>
                </a:lnTo>
              </a:path>
              <a:path fill="none" w="21600" h="21600">
                <a:moveTo>
                  <a:pt x="5295" y="19404"/>
                </a:moveTo>
                <a:lnTo>
                  <a:pt x="7995" y="21600"/>
                </a:lnTo>
              </a:path>
              <a:path fill="none" w="21600" h="21600">
                <a:moveTo>
                  <a:pt x="13605" y="19404"/>
                </a:moveTo>
                <a:lnTo>
                  <a:pt x="16305" y="19404"/>
                </a:lnTo>
                <a:lnTo>
                  <a:pt x="16305" y="2196"/>
                </a:lnTo>
              </a:path>
              <a:path fill="none" w="21600" h="21600">
                <a:moveTo>
                  <a:pt x="16305" y="19404"/>
                </a:moveTo>
                <a:lnTo>
                  <a:pt x="1360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4653000"/>
            <a:ext cx="302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okman Old Style"/>
              </a:rPr>
              <a:t>Laman St out door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i="1" lang="en-AU" sz="2400" spc="-1" strike="noStrike">
                <a:solidFill>
                  <a:srgbClr val="000000"/>
                </a:solidFill>
                <a:latin typeface="Bookman Old Style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45Z</dcterms:created>
  <dc:creator>tanisha.cragg</dc:creator>
  <dc:description/>
  <dc:language>en-US</dc:language>
  <cp:lastModifiedBy>tanisha.cragg</cp:lastModifiedBy>
  <dcterms:modified xsi:type="dcterms:W3CDTF">2010-08-31T01:07:50Z</dcterms:modified>
  <cp:revision>2</cp:revision>
  <dc:subject/>
  <dc:title>Slide 1</dc:title>
</cp:coreProperties>
</file>